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ADA-99F1-456B-9FC1-C255E8C8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AFB-768A-46C1-9FC7-E098E2C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B40-D548-445F-B9B8-7F304C17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385-B8AE-4BD3-B976-9B7C71C9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8A7-F54C-40AF-90C3-296FB63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BB4-DC34-48E5-9668-16621B41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211-C73D-4C3F-847F-670757C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E58-4593-4335-BFE2-B158175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9D2-6DDC-4B6E-8444-3DD1F6CD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659-AD2C-420D-BB76-69BB029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038-975E-4497-BF10-13B7969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44F-BC29-4902-AA5A-B206CC7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0C0-E871-462E-8A6E-8DB15199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Research Proces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researc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objectives of study and selection of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research question and hypothe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unishment effective for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gularity necessary for getting good grade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 at university lev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punished during teaching achieve better scores in exams than those who are not pu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ttend classes regularly at university level attain better scores in exams than those who do not attend classes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posal is detailed description of proposed study design to investigate a give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research plan and synopsis are also used as parallel to 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Research Propo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 of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/ reasons for selection of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 o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ce o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 of hypo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ations &amp; De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Population,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) Research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) Data collectio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) Data Analysi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key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rocess to study previous research reports and all available literature on topic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sic Sources for review of related literatu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reports( thesis, journal arti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s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and validation of research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tool is the instrument that a researcher use to colle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search tool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research tool requires a systemat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ge, a sample from population is selected and data from sample is collected by using the research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and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entative group selected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pulation for collection of data for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for who's problem researc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study. sample for study is choo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opulation . Results of study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o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rocess to apply statistical techniques on collected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sis of data analysis, findings are drawn that guide researcher to draw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 and conclusions give basis to researcher for preparations of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uggestions (prepared on the basis of conclusions of study) that recommend some changes in system to sol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ast process of research process in which researcher writes report of study according to approv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orms for research repor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or disse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arti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or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for news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Research Proces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and validation of research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data and drawing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f research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of research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blem means topic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research problem means to choose, finalize  to select a topic fo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 in research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suitable research problem is difficult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 for selection of research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research problem( by consulting different sou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ing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to be consulted for selection of problem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/ experts in fie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research problem must possess following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blem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/ limited in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resources( literature, time, money,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 of study means the targets that a researcher wants to achieve by conducting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known knowledge that a researcher wants to explore through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ntative statement that explain some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formulated on the basis of research question keeping in view research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pothesis set the direction for assumed solution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hypothesis is tentative, researchable and 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hypothesis necessary to formulate for a stud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earchers on the topic is available and they give some direction for selection of possible solution of problem then hypothesis is form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pic is of such nature that no literature on topic is available to give direction about the possible solution of problem then research question instead of hypothesis is form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question is interrogativ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4:55:55Z</dcterms:created>
  <dc:creator>Asim</dc:creator>
  <dc:description/>
  <dc:language>en-US</dc:language>
  <cp:lastModifiedBy>EDU</cp:lastModifiedBy>
  <dcterms:modified xsi:type="dcterms:W3CDTF">2014-12-17T17:50:38Z</dcterms:modified>
  <cp:revision>156</cp:revision>
  <dc:subject/>
  <dc:title>Research Process</dc:title>
</cp:coreProperties>
</file>